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984-5CCA-48D8-905A-4B44E473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817-A75E-4A1E-BF0B-0C5032DE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66E-A1DD-476A-AFD5-505B2C35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46C-304C-434A-A155-7E5C13EF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87E1-9972-42CB-9CB0-7B96D8BC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1CD8-798E-49E2-B51E-63D3D595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F9B2-4CF7-4A7D-A6CC-1C3CA619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EB64-3B91-4433-8334-494F593F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D57A-7C4C-4180-A537-90678BB0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2CEF-0593-41DE-8215-F8CBE94B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A481-EC36-4D84-9302-98A24A75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E2D-A219-4ED1-A1E9-2379CF53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2741-5058-4A5C-AED5-D3BA44AE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EA6B-4D44-41C9-9819-78738B16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AD30-CC8A-4A1E-8DDE-93AADD1C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EE14-74D6-4D07-B142-C0E0E03B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8F24-61D9-4FBA-A037-ED9E5B51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C507-EEE4-4AF4-8162-67E51D4C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9916-2457-492B-822F-47A3A136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EFD62-BAA1-4D61-8444-A04A5A38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A2D1-60E6-4129-941B-92EBCB6A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3A25-1C47-471F-96B2-C851C939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301-C15A-4CBD-87A7-DD96228C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015F-BF82-4943-B23A-8A823E18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E646-745A-44E7-ABA5-5618412B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A63A-B165-465B-AF16-DC5788F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82E5-9267-470E-A823-5F03754E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58B6-974D-4964-9295-A20F8DA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5AE7-D5FC-4992-BF0A-61C6B7E7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C19F-65C3-45D2-848F-C6021078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5A56E-51C6-4DA6-8404-E9A88D72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3613F-5B6B-4BEC-B6B1-89F8599C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CF5F-CCDA-4182-A4F8-2B0A3984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FFF-7F9C-4BF8-9A45-B541192B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6076-1702-404E-9E2E-FA48E8EE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0D9F-6B2C-48E7-8DC3-4D68918A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49E2-936D-4CBC-8E68-D2CA6D8E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CE4B-E2EF-45DD-96C7-AB71441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7211-7F2E-43E2-8F39-A6B050F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B938-25A2-4DF7-BB84-F41B26F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3DAFB-4601-4E5D-AFEE-7C99B5F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4AF8-AC22-4E7A-8A11-7422CC09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CCB4-0BDC-4C17-BC72-DBAD2DD3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E1E-5F96-4D79-9593-C308DB8D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DAB-815E-4C20-AE4A-12401B78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70F-4190-461D-A05B-4C721022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AC2-8BEF-473A-9018-27146FAD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17F-D48A-4400-8F59-A02145B3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266EB-0B85-4186-A70F-2B2EF77BAF5F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20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D961D-1569-4E6B-BFE2-BDB9E412D655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80875-72E5-4ED7-8A39-49B0549A3C01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4BCC3-88E0-4DF6-AE1F-3BA69A158F96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2009520"/>
            <a:ext cx="802188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f7698"/>
                </a:solidFill>
                <a:latin typeface="Times New Roman"/>
                <a:ea typeface="Times New Roman"/>
              </a:rPr>
              <a:t>Подготовка общеобразовательных организаций к проведению аккредитационного мониторинга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112760" y="4597560"/>
            <a:ext cx="616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Максимкина Людмила Викторовна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нсультант  отдела развития дошкольного и общего образования комитета по образованию администрации муниципального образования «Город Саратов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-360" y="939960"/>
            <a:ext cx="7410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880" y="295200"/>
            <a:ext cx="8685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ые мероприятия для проведения аккредитационного мониторинга</a:t>
            </a:r>
            <a:endParaRPr b="0" lang="en-US" sz="3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2080" y="1371600"/>
            <a:ext cx="9682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дать приказ(-ы) о назначении 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внесение сведений о показателях аккредитационного мониторинга в ИС ГА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 лица (технического специалиста) за обеспечение организационно-технического сопровождения проведения аккредитационного мониторинга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подготовку и размещение информации на официальном сайте образовательной организации в соответствии с показателями аккредитационного мониторинга (при необходимости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изировать размещенную информацию на официальном сайте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информационно-разъяснительную работу с педагогическими работниками, иными сотрудниками образовательной организации о процедуре аккредитационного мониторинга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предварительный мониторинг готовности образовательной организации к внесению сведений в ИС ГА в соответствии с показателями аккредитационного мониторинга по уровням реализуемых программ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учить логины и парол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личном кабинете провести анализ перечня реализуемых образовательных программ, подлежащих аккредитационному мониторингу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есение сведений в личном кабинете ИС Г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гласование сведений, внесенных в личном ИС ГА с муниципальным координатором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есение необходимых изменений по итогам согласования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чать материалов аккредитационного мониторинга, подпись, сканирование, отправка в ИС Г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640" y="114480"/>
            <a:ext cx="909648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к-лист готовности общеобразовательной организации к аккредитационному мониторингу</a:t>
            </a:r>
            <a:endParaRPr b="0" lang="en-US" sz="3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28600" y="1805040"/>
            <a:ext cx="3581280" cy="5052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3333600" y="1474920"/>
            <a:ext cx="3724560" cy="522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6772320" y="1171440"/>
            <a:ext cx="37098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619200" y="2914560"/>
            <a:ext cx="3448080" cy="12668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электронной информационно-образовательной среды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8"/>
          <p:cNvSpPr/>
          <p:nvPr/>
        </p:nvSpPr>
        <p:spPr>
          <a:xfrm>
            <a:off x="619200" y="4324320"/>
            <a:ext cx="3448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в период проведения аккредитационного мониторинга информация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сайт организации в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ГИС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0"/>
          <p:cNvSpPr/>
          <p:nvPr/>
        </p:nvSpPr>
        <p:spPr>
          <a:xfrm>
            <a:off x="4343400" y="628560"/>
            <a:ext cx="4229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Имеется» устанавливается, если на официальном сайте организации представлены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менее четырех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ледующих компонентов электронной информационно-образовательной среды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информационно-телекоммуникационной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ый нормативный акт об электронной информационно-образовательной среде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цифровой (электронной) библиотеке и (или) иным электронным образовательным ресурсам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электронной системе учета обучающихся, учета и хранения их образовательных результатов (электронный журнал, электронный дневник)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электронным портфолио обучающихся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учебному плану, рабочим программам учебных предметов, учебных курсов (в том числе внеурочной деятельности), учебных модулей начального общего образования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кабинет в федеральной государственной информационной системе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8277120" y="1762200"/>
            <a:ext cx="35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оответствующим договором или актами выполненных работ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авая фигурная скобка 12"/>
          <p:cNvSpPr/>
          <p:nvPr/>
        </p:nvSpPr>
        <p:spPr>
          <a:xfrm>
            <a:off x="8277120" y="2400480"/>
            <a:ext cx="295560" cy="3333600"/>
          </a:xfrm>
          <a:custGeom>
            <a:avLst/>
            <a:gdLst>
              <a:gd name="textAreaLeft" fmla="*/ 0 w 295560"/>
              <a:gd name="textAreaRight" fmla="*/ 106560 w 295560"/>
              <a:gd name="textAreaTop" fmla="*/ 7560 h 3333600"/>
              <a:gd name="textAreaBottom" fmla="*/ 33260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59"/>
                </a:cubicBezTo>
                <a:lnTo>
                  <a:pt x="10800" y="7000"/>
                </a:lnTo>
                <a:cubicBezTo>
                  <a:pt x="10800" y="7080"/>
                  <a:pt x="16200" y="7159"/>
                  <a:pt x="21600" y="7159"/>
                </a:cubicBezTo>
                <a:cubicBezTo>
                  <a:pt x="16200" y="7159"/>
                  <a:pt x="10800" y="7239"/>
                  <a:pt x="10800" y="7318"/>
                </a:cubicBezTo>
                <a:lnTo>
                  <a:pt x="10800" y="21441"/>
                </a:lnTo>
                <a:cubicBezTo>
                  <a:pt x="10800" y="2152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8696160" y="2562120"/>
            <a:ext cx="2981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сылкой на соответствующий раздел официального сайта организации в сети «Интернет», функционирующий в период проведения аккредитационного мониторинг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8572680" y="5448240"/>
            <a:ext cx="361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у организации личного кабинета в ФГИС «Моя школа» вышеуказанные компоненты электронной информационно-образовательной среды не учитываются, а организации присваивается значение «Имеется»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7"/>
          <p:cNvSpPr/>
          <p:nvPr/>
        </p:nvSpPr>
        <p:spPr>
          <a:xfrm>
            <a:off x="476280" y="2914560"/>
            <a:ext cx="3790800" cy="140976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обучающихся в оценочных мероприятиях, проведенных в рамках мониторинга системы образования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619200" y="4324320"/>
            <a:ext cx="344808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истемы Рособрнадзора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предоставленная организацией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ценки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0"/>
          <p:cNvSpPr/>
          <p:nvPr/>
        </p:nvSpPr>
        <p:spPr>
          <a:xfrm>
            <a:off x="4513320" y="771480"/>
            <a:ext cx="640080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четвертых учебных классов организации начального общего образования, участвовавших по всем учебным предметам, установленным Рособрнадзором, в ВПР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пятых - восьмых учебных классов организации основного общего образования, участвовавших по всем учебным предметам, установленным Рособрнадзором, в ВПР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одиннадцатых учебных классов организации среднего общего образования, участвовавших по всем учебным предметам, установленным Рособрнадзором, в ВПР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468680" y="4943520"/>
            <a:ext cx="669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информация по показателю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за текущий учебный год или учебный год, предшествующий году проведения аккредитационного мониторинга, в случае если в текущем учебном году организация не участвовала во всероссийских проверочных работах по отдельным учебным предметам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Правая фигурная скобка 11"/>
          <p:cNvSpPr/>
          <p:nvPr/>
        </p:nvSpPr>
        <p:spPr>
          <a:xfrm rot="5400000">
            <a:off x="7444800" y="1733400"/>
            <a:ext cx="292320" cy="58323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5832360"/>
              <a:gd name="textAreaBottom" fmla="*/ 582480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"/>
                  <a:pt x="10800" y="91"/>
                </a:cubicBezTo>
                <a:lnTo>
                  <a:pt x="10800" y="15256"/>
                </a:lnTo>
                <a:cubicBezTo>
                  <a:pt x="10800" y="15302"/>
                  <a:pt x="16200" y="15347"/>
                  <a:pt x="21600" y="15347"/>
                </a:cubicBezTo>
                <a:cubicBezTo>
                  <a:pt x="16200" y="15347"/>
                  <a:pt x="10800" y="15393"/>
                  <a:pt x="10800" y="15438"/>
                </a:cubicBezTo>
                <a:lnTo>
                  <a:pt x="10800" y="21509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311040" y="2884320"/>
            <a:ext cx="4608720" cy="2364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6154560" y="1058760"/>
            <a:ext cx="1576440" cy="5875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6"/>
          <p:cNvSpPr/>
          <p:nvPr/>
        </p:nvSpPr>
        <p:spPr>
          <a:xfrm>
            <a:off x="4975200" y="1449360"/>
            <a:ext cx="64008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личество педагогических работников, имеющих первую или высшую квалификационные категории по должности «Учитель» и (или) «Преподаватель», ученое звание и (или) ученую степень (в том числе богословскими учеными степенями и званиями) и лиц, приравненных к ним, участвующих в реализации учебного плана образовательной программы соответствующего уровня образования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педагогических работников, участвующих в реализации образовательной программы соответствующего уровня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рганизации общего образов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7731000" y="5068800"/>
            <a:ext cx="43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2040" y="2505240"/>
            <a:ext cx="4046760" cy="3763800"/>
          </a:xfrm>
          <a:prstGeom prst="rect">
            <a:avLst/>
          </a:prstGeom>
          <a:ln w="0">
            <a:noFill/>
          </a:ln>
        </p:spPr>
      </p:pic>
      <p:sp>
        <p:nvSpPr>
          <p:cNvPr id="245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4975200" y="1449360"/>
            <a:ext cx="640080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личество педагогических работников, прошедших повышение квалификации по профилю педагогической деятельности за последние 3 года, участвующих в реализации учебного плана образовательной программы соответствующего уровня образован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педагогических работников, участвующих в реализации образовательной программы соответствующего уровня образов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7529400" y="4738680"/>
            <a:ext cx="45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3"/>
          <a:stretch/>
        </p:blipFill>
        <p:spPr>
          <a:xfrm>
            <a:off x="6462720" y="1019160"/>
            <a:ext cx="17128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ывается по формул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975200" y="144936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количество выпускников, не набравших минимальное количество баллов по обязательным учебным предметам при прохождении государственной итоговой аттест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общее количество выпускников, проходивших государственную итоговую аттестацию по соответствующей образовательной программе по обязательным учебным предмета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285840" y="2754360"/>
            <a:ext cx="4060800" cy="226836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пускников, не набравших минимальное количество баллов по обязательным учебным предметам при прохождении государственной итоговой аттестации по образовательной программе, от общего количества выпускник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6486480" y="1058760"/>
            <a:ext cx="1552680" cy="5716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2"/>
          <p:cNvSpPr/>
          <p:nvPr/>
        </p:nvSpPr>
        <p:spPr>
          <a:xfrm>
            <a:off x="4695840" y="4033800"/>
            <a:ext cx="673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 по показателю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за учебный год, предшествующий году проведения аккредитационного мониторинг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92040" y="5189400"/>
            <a:ext cx="1138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, и приема граждан в образовательные организации основного общего образования для получения среднего профессионального и высшего образования и региональные информационные системы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ывается по формул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рямоугольник 6"/>
          <p:cNvSpPr/>
          <p:nvPr/>
        </p:nvSpPr>
        <p:spPr>
          <a:xfrm>
            <a:off x="4975200" y="146196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количество выпускников, получивших допуск к государственной итоговой аттестации (без учета повторного прохождения итогового собеседования/ повторного написания итогового сочинения (изложения) и (или) ликвидации академической задолженности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общее количество выпускников, освоивших образовательную программ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285840" y="2754360"/>
            <a:ext cx="4227480" cy="24350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пускников, получивших допуск к государственной итоговой аттестации по образовательной программе (без учета повторного прохождения итогового собеседования по русскому языку/ повторного написания итогового сочинения (изложения) и (или) ликвидации академической задолженности), от общего количества выпускни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4695840" y="4033800"/>
            <a:ext cx="673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 по показателю А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за учебный год, предшествующий году проведения аккредитационного мониторинг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392040" y="5189400"/>
            <a:ext cx="1138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, и приема граждан в образовательные организации основного общего образования для получения среднего профессионального и высшего образования и региональные информационные системы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6742080" y="1058760"/>
            <a:ext cx="1319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6T16:39:05Z</dcterms:created>
  <dc:creator>User Windows</dc:creator>
  <dc:description/>
  <dc:language>en-US</dc:language>
  <cp:lastModifiedBy>j.ardabackaya</cp:lastModifiedBy>
  <dcterms:modified xsi:type="dcterms:W3CDTF">2023-09-20T14:14:27Z</dcterms:modified>
  <cp:revision>52</cp:revision>
  <dc:subject/>
  <dc:title>Презентация PowerPoint</dc:title>
</cp:coreProperties>
</file>