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ED83-B65D-4E71-BB3F-C30705266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E2C0-4CE4-450E-B626-D78B2737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3D3C-24B1-4E16-BF23-7AEFBFF3F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5357-860C-4BE6-AAE9-B36CF98E4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8FEF-38D4-4E46-85AE-E28F8700A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E250-65B5-4E47-9845-413AB3A6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CA0E-F403-45CB-9545-1DA056E9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3D21-0916-4B50-B9C3-6F26E3FE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314C-0AED-4853-BD58-15BF3BB6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9B00-826E-42C9-9C4C-89BB5D09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B534-CCCE-41F5-8372-568E4EEB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139B-E555-42D1-B072-E9812684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0FE5-A553-46E7-9891-E0799078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EAD7-20EC-40D1-913F-1A8E6140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3F5B-52CC-4C5D-8FA8-A02228B2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752B-8985-4FF9-98BC-5E3933BB5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901E-2F42-4B0B-ACCC-FC75F871B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8A2EA-01E1-4816-9180-906372515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A87D4-1869-4A11-90DB-D9281970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2393B-3609-4068-A4F5-40AA4F59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68569-3C2C-464F-8517-370B0480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0169C-4BE3-4505-977F-E7DBA77B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9A6B-07DE-4D01-A024-0722F2B2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4CED5-2E9E-4386-BC54-3D5D94F4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8CDA8-1824-4D9C-AF25-6F01AE7C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C2786-D77F-4598-806B-0D63C6B1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5E311-81C2-424C-8E48-9404A965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43B0A-3772-4533-96DB-EFF4637B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5EE4E-71DC-4DD3-9354-4E8CAF67A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63AE9-A37E-4B9F-AC61-9D3194B9D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26937-A614-4338-B18F-01FF33C67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9C4DA-DF1E-4844-BBB0-B41C39CE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5F3B3-B71D-4AD9-96BB-554CE425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0BB8-4B46-4EB8-AC13-106F0875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B1B8B-2200-4B8F-B775-E7464BE0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05CB8-4914-4890-9E87-F9DD92E0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7035C-97C8-4715-8F99-188C8D39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47E9A-0541-4651-AB9C-9A8E465C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55DE2-B158-4C19-9996-B1C68274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A776D-8827-4538-AED9-C5567896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8FFBB-3F9F-467F-A1C1-1F554D15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DB85D-8985-4FDD-A492-FA8ED40A1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74951-FFFC-4708-95B4-DA5500EDA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6E1F-BE1C-414C-9160-69FBA1A5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6C83-14E9-4758-BB05-C7813AE8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854D-26F7-4FBB-96AF-4A060EE6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0FD3-1CE2-4ABE-A38C-1E596850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5612-F679-4B4B-B27A-790B1478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1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41F914-2B89-46FB-AE3D-0E05A5F48E31}" type="slidenum">
              <a:rPr b="0" lang="en-US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5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Freeform 14"/>
            <p:cNvSpPr/>
            <p:nvPr/>
          </p:nvSpPr>
          <p:spPr>
            <a:xfrm>
              <a:off x="0" y="-720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8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Straight Connector 19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Isosceles Triangle 22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26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CD7B6A-6E49-49C2-9BDD-48C8882CFA57}" type="slidenum">
              <a:rPr b="0" lang="en-US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1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170AE6-4848-43C7-A1E9-F710E2858A06}" type="slidenum">
              <a:rPr b="0" lang="en-US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1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6F5E38-8E90-46F1-826F-50A71842D918}" type="slidenum">
              <a:rPr b="0" lang="en-US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2080" y="2009520"/>
            <a:ext cx="8021880" cy="22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f7698"/>
                </a:solidFill>
                <a:latin typeface="Times New Roman"/>
                <a:ea typeface="Times New Roman"/>
              </a:rPr>
              <a:t>Подготовка общеобразовательных организаций к проведению аккредитационного мониторинга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1112760" y="4597560"/>
            <a:ext cx="6161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Максимкина Людмила Викторовна,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консультант  отдела развития дошкольного и общего образования комитета по образованию администрации муниципального образования «Город Саратов»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-360" y="939960"/>
            <a:ext cx="7410600" cy="51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880" y="295200"/>
            <a:ext cx="86853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готовительные мероприятия для проведения аккредитационного мониторинга</a:t>
            </a:r>
            <a:endParaRPr b="0" lang="en-US" sz="3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52080" y="1371600"/>
            <a:ext cx="9682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здать приказ(-ы) о назначении :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</a:t>
            </a: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тветственного(-ых) лица(лиц) за внесение сведений о показателях аккредитационного мониторинга в ИС ГА;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</a:t>
            </a: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тветственного лица (технического специалиста) за обеспечение организационно-технического сопровождения проведения аккредитационного мониторинга;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тветственного(-ых) лица(лиц) за подготовку и размещение информации на официальном сайте образовательной организации в соответствии с показателями аккредитационного мониторинга (при необходимости)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ктуализировать размещенную информацию на официальном сайте;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вести информационно-разъяснительную работу с педагогическими работниками, иными сотрудниками образовательной организации о процедуре аккредитационного мониторинга;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вести предварительный мониторинг готовности образовательной организации к внесению сведений в ИС ГА в соответствии с показателями аккредитационного мониторинга по уровням реализуемых программ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лучить логины и пароли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личном кабинете провести анализ перечня реализуемых образовательных программ, подлежащих аккредитационному мониторингу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несение сведений в личном кабинете ИС ГА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гласование сведений, внесенных в личном ИС ГА с муниципальным координатором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несение необходимых изменений по итогам согласования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чать материалов аккредитационного мониторинга, подпись, сканирование, отправка в ИС ГА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85640" y="114480"/>
            <a:ext cx="9096480" cy="118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к-лист готовности общеобразовательной организации к аккредитационному мониторингу</a:t>
            </a:r>
            <a:endParaRPr b="0" lang="en-US" sz="30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228600" y="1805040"/>
            <a:ext cx="3581280" cy="5052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3333600" y="1474920"/>
            <a:ext cx="3724560" cy="5221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"/>
          <p:cNvPicPr/>
          <p:nvPr/>
        </p:nvPicPr>
        <p:blipFill>
          <a:blip r:embed="rId3"/>
          <a:stretch/>
        </p:blipFill>
        <p:spPr>
          <a:xfrm>
            <a:off x="6772320" y="1171440"/>
            <a:ext cx="37098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5"/>
          <p:cNvSpPr/>
          <p:nvPr/>
        </p:nvSpPr>
        <p:spPr>
          <a:xfrm>
            <a:off x="476280" y="324000"/>
            <a:ext cx="3867120" cy="2466720"/>
          </a:xfrm>
          <a:prstGeom prst="roundRect">
            <a:avLst>
              <a:gd name="adj" fmla="val 16667"/>
            </a:avLst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аккредитационного мониторинга системы образования по основным общеобразовательным программам - образовательным программам начального общего, основного общего и среднего общего образования и методика их расчета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Прямоугольник 7"/>
          <p:cNvSpPr/>
          <p:nvPr/>
        </p:nvSpPr>
        <p:spPr>
          <a:xfrm>
            <a:off x="619200" y="2914560"/>
            <a:ext cx="3448080" cy="1266840"/>
          </a:xfrm>
          <a:prstGeom prst="rect">
            <a:avLst/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электронной информационно-образовательной среды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Прямоугольник 8"/>
          <p:cNvSpPr/>
          <p:nvPr/>
        </p:nvSpPr>
        <p:spPr>
          <a:xfrm>
            <a:off x="619200" y="4324320"/>
            <a:ext cx="34480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ый период: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ется актуальная в период проведения аккредитационного мониторинга информация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 данных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обходимых для расчета показателя АП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фициальный сайт организации в сети «Интернет»;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ГИС «Моя школа»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4695840" y="152280"/>
            <a:ext cx="3581280" cy="47628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10"/>
          <p:cNvSpPr/>
          <p:nvPr/>
        </p:nvSpPr>
        <p:spPr>
          <a:xfrm>
            <a:off x="4343400" y="628560"/>
            <a:ext cx="42292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показателя АП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Имеется» устанавливается, если на официальном сайте организации представлены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менее четырех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следующих компонентов электронной информационно-образовательной среды: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 к информационно-телекоммуникационной сети «Интернет»;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ьный нормативный акт об электронной информационно-образовательной среде;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доступа к цифровой (электронной) библиотеке и (или) иным электронным образовательным ресурсам;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доступа к электронной системе учета обучающихся, учета и хранения их образовательных результатов (электронный журнал, электронный дневник);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доступа к электронным портфолио обучающихся;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доступа к учебному плану, рабочим программам учебных предметов, учебных курсов (в том числе внеурочной деятельности), учебных модулей начального общего образования;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ый кабинет в федеральной государственной информационной системе «Моя школа»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Прямоугольник 11"/>
          <p:cNvSpPr/>
          <p:nvPr/>
        </p:nvSpPr>
        <p:spPr>
          <a:xfrm>
            <a:off x="8277120" y="1762200"/>
            <a:ext cx="35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верждается соответствующим договором или актами выполненных работ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Правая фигурная скобка 12"/>
          <p:cNvSpPr/>
          <p:nvPr/>
        </p:nvSpPr>
        <p:spPr>
          <a:xfrm>
            <a:off x="8277120" y="2400480"/>
            <a:ext cx="295560" cy="3333600"/>
          </a:xfrm>
          <a:custGeom>
            <a:avLst/>
            <a:gdLst>
              <a:gd name="textAreaLeft" fmla="*/ 0 w 295560"/>
              <a:gd name="textAreaRight" fmla="*/ 106560 w 295560"/>
              <a:gd name="textAreaTop" fmla="*/ 7560 h 3333600"/>
              <a:gd name="textAreaBottom" fmla="*/ 3326040 h 333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0"/>
                  <a:pt x="10800" y="159"/>
                </a:cubicBezTo>
                <a:lnTo>
                  <a:pt x="10800" y="7000"/>
                </a:lnTo>
                <a:cubicBezTo>
                  <a:pt x="10800" y="7080"/>
                  <a:pt x="16200" y="7159"/>
                  <a:pt x="21600" y="7159"/>
                </a:cubicBezTo>
                <a:cubicBezTo>
                  <a:pt x="16200" y="7159"/>
                  <a:pt x="10800" y="7239"/>
                  <a:pt x="10800" y="7318"/>
                </a:cubicBezTo>
                <a:lnTo>
                  <a:pt x="10800" y="21441"/>
                </a:lnTo>
                <a:cubicBezTo>
                  <a:pt x="10800" y="2152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51d2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Прямоугольник 13"/>
          <p:cNvSpPr/>
          <p:nvPr/>
        </p:nvSpPr>
        <p:spPr>
          <a:xfrm>
            <a:off x="8696160" y="2562120"/>
            <a:ext cx="29815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верждается ссылкой на соответствующий раздел официального сайта организации в сети «Интернет», функционирующий в период проведения аккредитационного мониторинга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Прямоугольник 14"/>
          <p:cNvSpPr/>
          <p:nvPr/>
        </p:nvSpPr>
        <p:spPr>
          <a:xfrm>
            <a:off x="8572680" y="5448240"/>
            <a:ext cx="3619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у организации личного кабинета в ФГИС «Моя школа» вышеуказанные компоненты электронной информационно-образовательной среды не учитываются, а организации присваивается значение «Имеется»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Скругленный прямоугольник 5"/>
          <p:cNvSpPr/>
          <p:nvPr/>
        </p:nvSpPr>
        <p:spPr>
          <a:xfrm>
            <a:off x="476280" y="324000"/>
            <a:ext cx="3867120" cy="2466720"/>
          </a:xfrm>
          <a:prstGeom prst="roundRect">
            <a:avLst>
              <a:gd name="adj" fmla="val 16667"/>
            </a:avLst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аккредитационного мониторинга системы образования по основным общеобразовательным программам - образовательным программам начального общего, основного общего и среднего общего образования и методика их расчета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Прямоугольник 7"/>
          <p:cNvSpPr/>
          <p:nvPr/>
        </p:nvSpPr>
        <p:spPr>
          <a:xfrm>
            <a:off x="476280" y="2914560"/>
            <a:ext cx="3790800" cy="1409760"/>
          </a:xfrm>
          <a:prstGeom prst="rect">
            <a:avLst/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обучающихся в оценочных мероприятиях, проведенных в рамках мониторинга системы образования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Прямоугольник 8"/>
          <p:cNvSpPr/>
          <p:nvPr/>
        </p:nvSpPr>
        <p:spPr>
          <a:xfrm>
            <a:off x="619200" y="4324320"/>
            <a:ext cx="3448080" cy="24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 данны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обходимых для расчета показателя АП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е системы Рособрнадзора;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, предоставленная организацией;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информационная система оценки качества образовани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4695840" y="152280"/>
            <a:ext cx="3581280" cy="47628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0"/>
          <p:cNvSpPr/>
          <p:nvPr/>
        </p:nvSpPr>
        <p:spPr>
          <a:xfrm>
            <a:off x="4513320" y="771480"/>
            <a:ext cx="640080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показателя А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Принимали участие» устанавливается при наличии обучающихся четвертых учебных классов организации начального общего образования, участвовавших по всем учебным предметам, установленным Рособрнадзором, в ВПР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показателя А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Принимали участие» устанавливается при наличии обучающихся пятых - восьмых учебных классов организации основного общего образования, участвовавших по всем учебным предметам, установленным Рособрнадзором, в ВПР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показателя А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Принимали участие» устанавливается при наличии обучающихся одиннадцатых учебных классов организации среднего общего образования, участвовавших по всем учебным предметам, установленным Рособрнадзором, в ВПР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Прямоугольник 2"/>
          <p:cNvSpPr/>
          <p:nvPr/>
        </p:nvSpPr>
        <p:spPr>
          <a:xfrm>
            <a:off x="4468680" y="4943520"/>
            <a:ext cx="6694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ый период: информация по показателю АП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ется за текущий учебный год или учебный год, предшествующий году проведения аккредитационного мониторинга, в случае если в текущем учебном году организация не участвовала во всероссийских проверочных работах по отдельным учебным предметам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Правая фигурная скобка 11"/>
          <p:cNvSpPr/>
          <p:nvPr/>
        </p:nvSpPr>
        <p:spPr>
          <a:xfrm rot="5400000">
            <a:off x="7444800" y="1733400"/>
            <a:ext cx="292320" cy="5832360"/>
          </a:xfrm>
          <a:custGeom>
            <a:avLst/>
            <a:gdLst>
              <a:gd name="textAreaLeft" fmla="*/ 0 w 292320"/>
              <a:gd name="textAreaRight" fmla="*/ 105480 w 292320"/>
              <a:gd name="textAreaTop" fmla="*/ 7560 h 5832360"/>
              <a:gd name="textAreaBottom" fmla="*/ 5824800 h 583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6"/>
                  <a:pt x="10800" y="91"/>
                </a:cubicBezTo>
                <a:lnTo>
                  <a:pt x="10800" y="15256"/>
                </a:lnTo>
                <a:cubicBezTo>
                  <a:pt x="10800" y="15302"/>
                  <a:pt x="16200" y="15347"/>
                  <a:pt x="21600" y="15347"/>
                </a:cubicBezTo>
                <a:cubicBezTo>
                  <a:pt x="16200" y="15347"/>
                  <a:pt x="10800" y="15393"/>
                  <a:pt x="10800" y="15438"/>
                </a:cubicBezTo>
                <a:lnTo>
                  <a:pt x="10800" y="21509"/>
                </a:lnTo>
                <a:cubicBezTo>
                  <a:pt x="10800" y="21555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51d2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Скругленный прямоугольник 5"/>
          <p:cNvSpPr/>
          <p:nvPr/>
        </p:nvSpPr>
        <p:spPr>
          <a:xfrm>
            <a:off x="476280" y="324000"/>
            <a:ext cx="3867120" cy="2466720"/>
          </a:xfrm>
          <a:prstGeom prst="roundRect">
            <a:avLst>
              <a:gd name="adj" fmla="val 16667"/>
            </a:avLst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аккредитационного мониторинга системы образования по основным общеобразовательным программам - образовательным программам начального общего, основного общего и среднего общего образования и методика их расчета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4695840" y="152280"/>
            <a:ext cx="3581280" cy="476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2"/>
          <a:stretch/>
        </p:blipFill>
        <p:spPr>
          <a:xfrm>
            <a:off x="311040" y="2884320"/>
            <a:ext cx="4608720" cy="236412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4"/>
          <p:cNvSpPr/>
          <p:nvPr/>
        </p:nvSpPr>
        <p:spPr>
          <a:xfrm>
            <a:off x="4786200" y="628560"/>
            <a:ext cx="5486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ь рассчитывается по формуле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3"/>
          <a:stretch/>
        </p:blipFill>
        <p:spPr>
          <a:xfrm>
            <a:off x="6154560" y="1058760"/>
            <a:ext cx="1576440" cy="58752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6"/>
          <p:cNvSpPr/>
          <p:nvPr/>
        </p:nvSpPr>
        <p:spPr>
          <a:xfrm>
            <a:off x="4975200" y="1449360"/>
            <a:ext cx="640080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оличество педагогических работников, имеющих первую или высшую квалификационные категории по должности «Учитель» и (или) «Преподаватель», ученое звание и (или) ученую степень (в том числе богословскими учеными степенями и званиями) и лиц, приравненных к ним, участвующих в реализации учебного плана образовательной программы соответствующего уровня образования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бщее количество педагогических работников, участвующих в реализации образовательной программы соответствующего уровня образован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Прямоугольник 9"/>
          <p:cNvSpPr/>
          <p:nvPr/>
        </p:nvSpPr>
        <p:spPr>
          <a:xfrm>
            <a:off x="476280" y="5587920"/>
            <a:ext cx="866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ый период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ется актуальная информация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 данн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обходимых для расчета показателя А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официальный сайт в сети «Интернет» организации общего образования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Прямоугольник 13"/>
          <p:cNvSpPr/>
          <p:nvPr/>
        </p:nvSpPr>
        <p:spPr>
          <a:xfrm>
            <a:off x="7731000" y="5068800"/>
            <a:ext cx="432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счете показателя учитываются в том числе внешние совместители и лица, работающие по договорам гражданско-правового характер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392040" y="2505240"/>
            <a:ext cx="4046760" cy="3763800"/>
          </a:xfrm>
          <a:prstGeom prst="rect">
            <a:avLst/>
          </a:prstGeom>
          <a:ln w="0">
            <a:noFill/>
          </a:ln>
        </p:spPr>
      </p:pic>
      <p:sp>
        <p:nvSpPr>
          <p:cNvPr id="245" name="Скругленный прямоугольник 5"/>
          <p:cNvSpPr/>
          <p:nvPr/>
        </p:nvSpPr>
        <p:spPr>
          <a:xfrm>
            <a:off x="392040" y="119160"/>
            <a:ext cx="3867120" cy="2466720"/>
          </a:xfrm>
          <a:prstGeom prst="roundRect">
            <a:avLst>
              <a:gd name="adj" fmla="val 16667"/>
            </a:avLst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аккредитационного мониторинга системы образования по основным общеобразовательным программам - образовательным программам начального общего, основного общего и среднего общего образования и методика их расчета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2"/>
          <a:stretch/>
        </p:blipFill>
        <p:spPr>
          <a:xfrm>
            <a:off x="4695840" y="152280"/>
            <a:ext cx="3581280" cy="47628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4"/>
          <p:cNvSpPr/>
          <p:nvPr/>
        </p:nvSpPr>
        <p:spPr>
          <a:xfrm>
            <a:off x="4786200" y="628560"/>
            <a:ext cx="5486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ь рассчитывается по формуле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Прямоугольник 6"/>
          <p:cNvSpPr/>
          <p:nvPr/>
        </p:nvSpPr>
        <p:spPr>
          <a:xfrm>
            <a:off x="4975200" y="1449360"/>
            <a:ext cx="640080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количество педагогических работников, прошедших повышение квалификации по профилю педагогической деятельности за последние 3 года, участвующих в реализации учебного плана образовательной программы соответствующего уровня образования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бщее количество педагогических работников, участвующих в реализации образовательной программы соответствующего уровня образования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Прямоугольник 9"/>
          <p:cNvSpPr/>
          <p:nvPr/>
        </p:nvSpPr>
        <p:spPr>
          <a:xfrm>
            <a:off x="476280" y="5587920"/>
            <a:ext cx="866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ый период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ется актуальная информация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 данн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обходимых для расчета показателя А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официальный сайт в сети «Интернет» образовательной организаци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Прямоугольник 13"/>
          <p:cNvSpPr/>
          <p:nvPr/>
        </p:nvSpPr>
        <p:spPr>
          <a:xfrm>
            <a:off x="7529400" y="4738680"/>
            <a:ext cx="45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счете показателя учитываются в том числе внешние совместители и лица, работающие по договорам гражданско-правового характер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3"/>
          <a:stretch/>
        </p:blipFill>
        <p:spPr>
          <a:xfrm>
            <a:off x="6462720" y="1019160"/>
            <a:ext cx="171288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Скругленный прямоугольник 5"/>
          <p:cNvSpPr/>
          <p:nvPr/>
        </p:nvSpPr>
        <p:spPr>
          <a:xfrm>
            <a:off x="392040" y="119160"/>
            <a:ext cx="3867120" cy="2466720"/>
          </a:xfrm>
          <a:prstGeom prst="roundRect">
            <a:avLst>
              <a:gd name="adj" fmla="val 16667"/>
            </a:avLst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аккредитационного мониторинга системы образования по основным общеобразовательным программам - образовательным программам начального общего, основного общего и среднего общего образования и методика их расчета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4695840" y="152280"/>
            <a:ext cx="3581280" cy="47628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4"/>
          <p:cNvSpPr/>
          <p:nvPr/>
        </p:nvSpPr>
        <p:spPr>
          <a:xfrm>
            <a:off x="4786200" y="628560"/>
            <a:ext cx="5486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ь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читывается по формуле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Прямоугольник 6"/>
          <p:cNvSpPr/>
          <p:nvPr/>
        </p:nvSpPr>
        <p:spPr>
          <a:xfrm>
            <a:off x="4975200" y="1449360"/>
            <a:ext cx="6400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- количество выпускников, не набравших минимальное количество баллов по обязательным учебным предметам при прохождении государственной итоговой аттестаци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- общее количество выпускников, проходивших государственную итоговую аттестацию по соответствующей образовательной программе по обязательным учебным предметам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Прямоугольник 1"/>
          <p:cNvSpPr/>
          <p:nvPr/>
        </p:nvSpPr>
        <p:spPr>
          <a:xfrm>
            <a:off x="285840" y="2754360"/>
            <a:ext cx="4060800" cy="2268360"/>
          </a:xfrm>
          <a:prstGeom prst="rect">
            <a:avLst/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я выпускников, не набравших минимальное количество баллов по обязательным учебным предметам при прохождении государственной итоговой аттестации по образовательной программе, от общего количества выпускников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6486480" y="1058760"/>
            <a:ext cx="1552680" cy="57168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2"/>
          <p:cNvSpPr/>
          <p:nvPr/>
        </p:nvSpPr>
        <p:spPr>
          <a:xfrm>
            <a:off x="4695840" y="4033800"/>
            <a:ext cx="673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ый пери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нформация по показателю А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ется за учебный год, предшествующий году проведения аккредитационного мониторинга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Прямоугольник 3"/>
          <p:cNvSpPr/>
          <p:nvPr/>
        </p:nvSpPr>
        <p:spPr>
          <a:xfrm>
            <a:off x="392040" y="5189400"/>
            <a:ext cx="11388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 данны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обходимых для расчета показателя А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информационная система обеспечения проведения государственной итоговой аттестации обучающихся, освоивших основные образовательные программы основного общего и среднего общего образования, и приема граждан в образовательные организации основного общего образования для получения среднего профессионального и высшего образования и региональные информационные системы обеспечения проведения государственной итоговой аттестации обучающихся, освоивших основные образовательные программы основного общего и среднего общего образовани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Скругленный прямоугольник 5"/>
          <p:cNvSpPr/>
          <p:nvPr/>
        </p:nvSpPr>
        <p:spPr>
          <a:xfrm>
            <a:off x="392040" y="119160"/>
            <a:ext cx="3867120" cy="2466720"/>
          </a:xfrm>
          <a:prstGeom prst="roundRect">
            <a:avLst>
              <a:gd name="adj" fmla="val 16667"/>
            </a:avLst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аккредитационного мониторинга системы образования по основным общеобразовательным программам - образовательным программам начального общего, основного общего и среднего общего образования и методика их расчета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4695840" y="152280"/>
            <a:ext cx="3581280" cy="47628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4"/>
          <p:cNvSpPr/>
          <p:nvPr/>
        </p:nvSpPr>
        <p:spPr>
          <a:xfrm>
            <a:off x="4786200" y="628560"/>
            <a:ext cx="5486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ь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читывается по формуле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Прямоугольник 6"/>
          <p:cNvSpPr/>
          <p:nvPr/>
        </p:nvSpPr>
        <p:spPr>
          <a:xfrm>
            <a:off x="4975200" y="1461960"/>
            <a:ext cx="6400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- количество выпускников, получивших допуск к государственной итоговой аттестации (без учета повторного прохождения итогового собеседования/ повторного написания итогового сочинения (изложения) и (или) ликвидации академической задолженности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- общее количество выпускников, освоивших образовательную программ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Прямоугольник 1"/>
          <p:cNvSpPr/>
          <p:nvPr/>
        </p:nvSpPr>
        <p:spPr>
          <a:xfrm>
            <a:off x="285840" y="2754360"/>
            <a:ext cx="4227480" cy="2435040"/>
          </a:xfrm>
          <a:prstGeom prst="rect">
            <a:avLst/>
          </a:prstGeom>
          <a:solidFill>
            <a:srgbClr val="5fcbef"/>
          </a:solidFill>
          <a:ln w="2556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я выпускников, получивших допуск к государственной итоговой аттестации по образовательной программе (без учета повторного прохождения итогового собеседования по русскому языку/ повторного написания итогового сочинения (изложения) и (или) ликвидации академической задолженности), от общего количества выпускников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Прямоугольник 2"/>
          <p:cNvSpPr/>
          <p:nvPr/>
        </p:nvSpPr>
        <p:spPr>
          <a:xfrm>
            <a:off x="4695840" y="4033800"/>
            <a:ext cx="673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ый пери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нформация по показателю АП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ется за учебный год, предшествующий году проведения аккредитационного мониторинга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Прямоугольник 3"/>
          <p:cNvSpPr/>
          <p:nvPr/>
        </p:nvSpPr>
        <p:spPr>
          <a:xfrm>
            <a:off x="392040" y="5189400"/>
            <a:ext cx="11388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 данны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обходимых для расчета показателя АП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информационная система обеспечения проведения государственной итоговой аттестации обучающихся, освоивших основные образовательные программы основного общего и среднего общего образования, и приема граждан в образовательные организации основного общего образования для получения среднего профессионального и высшего образования и региональные информационные системы обеспечения проведения государственной итоговой аттестации обучающихся, освоивших основные образовательные программы основного общего и среднего общего образовани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2"/>
          <a:stretch/>
        </p:blipFill>
        <p:spPr>
          <a:xfrm>
            <a:off x="6742080" y="1058760"/>
            <a:ext cx="131940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1-26T16:39:05Z</dcterms:created>
  <dc:creator>User Windows</dc:creator>
  <dc:description/>
  <dc:language>en-US</dc:language>
  <cp:lastModifiedBy>j.ardabackaya</cp:lastModifiedBy>
  <dcterms:modified xsi:type="dcterms:W3CDTF">2023-09-20T14:14:27Z</dcterms:modified>
  <cp:revision>52</cp:revision>
  <dc:subject/>
  <dc:title>Презентация PowerPoint</dc:title>
</cp:coreProperties>
</file>