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674-EA4C-47EE-B3A2-C2E8F230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8E2-A74A-4807-8ED2-05164715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8D7-9934-4650-BFC9-6B1F4D54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376-8084-450F-8B51-45F430FD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1576-3A6A-4F1B-B558-234ABF49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FA42-F72F-4AB2-BD25-85C1D42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8B92-463A-4874-A5A3-DD7D4F8D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BE9C-6CA1-4BD5-A6EA-EEBA5449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3AC7-651A-4E9F-B387-5E8D786D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55C-2AB0-4AD5-8D6D-F97B309E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0A4E-5834-4E52-BEC3-999D0F6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236-A970-4DA3-BCCF-43DE7CF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7FA0-24C2-4ADD-9616-F8212018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2E2C-D4F7-4BCE-A5CA-962CDD7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70D7-C582-49F5-A5A0-FE538BA1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52FE-1F79-4D69-94E2-A574ABAE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84BE-F85B-4BBC-978B-644FF116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2B845-FBD3-4927-B731-3C631E76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0545-B2C0-422D-954E-4AF96D92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535C-E86E-44BF-85E1-D673E689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9EA2-20A5-43E7-ABA8-67C10EC0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C67A7-EBFF-4BBE-8E46-B2DDA69F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FE6-BD5A-48D5-B666-F583D73C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ED13-F54A-4148-A906-B76547FB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5118-6322-4676-8DFC-CE4ECCAF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868F3-D5E3-47B3-BD9A-B77FA87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09DA-69F9-4AE1-A4F4-F2C0A2A1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DC86-2CB7-41E3-8F77-5163AFC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9C5D-37E5-4D4C-A273-BC621576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D612-660A-469B-B0F7-C3AE0F86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EFCF-5260-47E4-9AA6-2021D38A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D2AB-0307-41CC-A95B-09EAA9D7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EF14-3767-4D34-B2C0-944AED67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40E-CD69-454B-84F2-8FCCA245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73FA2-2D47-405C-95D4-91BC3120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55E2-3877-4B81-99CE-9E909689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1199-C41A-47B2-B0AD-6F95F756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D5ED-D51E-45E3-A5BB-405DCD20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F5DB-484F-4495-9111-1551F39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F140-BA36-4D8B-9732-095880B2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8E7B7-6968-4359-A950-2B519F8E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5C54-AFC2-4D37-AD3A-1BC22A3D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0F7F-27F8-48DC-AD7A-F6C1DD16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7E3-1E06-4CDC-8769-B699B791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0B5-BD58-43ED-9CA7-BDD9916D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D81-D207-40AF-8FC7-42EC37C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C08-1EC6-4908-B60A-B9C9EA4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EFE-6A8E-4B74-81BB-99944BF1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C2E5B-50A9-4CA3-99DB-18B165608E42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20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D2828-8FEC-4981-84EA-B4BAC60F8369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DCF6A-075E-40B6-A7E1-31B8CEC05637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EDBF9-A686-436A-A1E7-6415BE0480F3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2009520"/>
            <a:ext cx="802188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f7698"/>
                </a:solidFill>
                <a:latin typeface="Times New Roman"/>
                <a:ea typeface="Times New Roman"/>
              </a:rPr>
              <a:t>Подготовка среднего профессионального образования к проведению аккредитационного мониторинга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112760" y="4597560"/>
            <a:ext cx="616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Чубарых Татьяна Евгеньевна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етственный за аккредитационный мониториг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ГАПОУ СО «Вольский педагогический колледж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им.Ф.И.Панферова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-360" y="939960"/>
            <a:ext cx="7410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880" y="295200"/>
            <a:ext cx="8685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е мероприятия для проведения аккредитационного мониторинга</a:t>
            </a:r>
            <a:endParaRPr b="0" lang="en-US" sz="3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2080" y="1371600"/>
            <a:ext cx="9682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дать приказ(-ы) о назначении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внесение сведений о показателях аккредитационного мониторинга в ИС Г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 лица (технического специалиста) за обеспечение организационно-технического сопровождения проведения аккредитационного мониторинг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подготовку и размещение информации на официальном сайте образовательной организации в соответствии с показателями аккредитационного мониторинга (при необходимости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изировать размещенную информацию на официальном сайт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информационно-разъяснительную работу с педагогическими работниками, иными сотрудниками образовательной организации о процедуре аккредитационного мониторинга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предварительный мониторинг готовности образовательной организации к внесению сведений в ИС ГА в соответствии с показателями аккредитационного мониторинга по уровням реализуемых программ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учить логины и парол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личном кабинете провести анализ перечня реализуемых образовательных программ, подлежащих аккредитационному мониторингу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сти сведения в ИС ГА посредством личного кабинет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619200" y="2914560"/>
            <a:ext cx="3448080" cy="12668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электронной информационно-образовательной среды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619200" y="4324320"/>
            <a:ext cx="3448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в период проведения аккредитационного мониторинга информация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сайт организации в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ГИС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0"/>
          <p:cNvSpPr/>
          <p:nvPr/>
        </p:nvSpPr>
        <p:spPr>
          <a:xfrm>
            <a:off x="4343400" y="628560"/>
            <a:ext cx="45054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Имеется» устанавливается, если на официальном сайте организации представлены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енее четырех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едующих компонентов электронной информационно-образовательной среды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оступ к информационно-телекоммуникационной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локальный нормативный акт об электронной информационно-образовательной среде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личие доступа к цифровой (электронной) библиотеке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аличие доступа к электронным образовательным ресурсам и (или) профессиональным базам данных (подборкам информационных ресурсов по тематикам в соответствии с содержанием реализуемой образовательной программы)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аличие доступа к электронной системе учета обучающихся, учета и хранения их образовательных результатов (электронный журнал)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наличие возможности взаимодействия педагогических работников с обучающимися (личные кабинеты обучающихся и преподавателей) в электронной информационно-образовательной среде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Наличие доступа к электронному расписанию (под электронным расписанием понимается сервис, с помощью которого каждый студент может узнать свое актуальное расписание занятий и сессии)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кабинет в федеральной государственной информационной системе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8696160" y="1687680"/>
            <a:ext cx="35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оответствующим договором или актами выполненных работ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авая фигурная скобка 12"/>
          <p:cNvSpPr/>
          <p:nvPr/>
        </p:nvSpPr>
        <p:spPr>
          <a:xfrm>
            <a:off x="8277120" y="2400480"/>
            <a:ext cx="295560" cy="3333600"/>
          </a:xfrm>
          <a:custGeom>
            <a:avLst/>
            <a:gdLst>
              <a:gd name="textAreaLeft" fmla="*/ 0 w 295560"/>
              <a:gd name="textAreaRight" fmla="*/ 106560 w 295560"/>
              <a:gd name="textAreaTop" fmla="*/ 7560 h 3333600"/>
              <a:gd name="textAreaBottom" fmla="*/ 33260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59"/>
                </a:cubicBezTo>
                <a:lnTo>
                  <a:pt x="10800" y="7000"/>
                </a:lnTo>
                <a:cubicBezTo>
                  <a:pt x="10800" y="7080"/>
                  <a:pt x="16200" y="7159"/>
                  <a:pt x="21600" y="7159"/>
                </a:cubicBezTo>
                <a:cubicBezTo>
                  <a:pt x="16200" y="7159"/>
                  <a:pt x="10800" y="7239"/>
                  <a:pt x="10800" y="7318"/>
                </a:cubicBezTo>
                <a:lnTo>
                  <a:pt x="10800" y="21441"/>
                </a:lnTo>
                <a:cubicBezTo>
                  <a:pt x="10800" y="2152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8848800" y="2581200"/>
            <a:ext cx="2981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сылкой на соответствующий раздел официального сайта организации в сети «Интернет», функционирующий в период проведения аккредитационного мониторинг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8739360" y="5338800"/>
            <a:ext cx="361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у организации личного кабинета в ФГИС «Моя школа» вышеуказанные компоненты электронной информационно-образовательной среды не учитываются, а организации присваивается значение «Имеется»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5"/>
          <p:cNvSpPr/>
          <p:nvPr/>
        </p:nvSpPr>
        <p:spPr>
          <a:xfrm>
            <a:off x="476280" y="324000"/>
            <a:ext cx="3867120" cy="237960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476280" y="2851200"/>
            <a:ext cx="3790800" cy="147312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трудоустроившихся в течение календарного года, следующего за годом выпуска, в общей численности выпускников по образовательной программе средне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619200" y="4324320"/>
            <a:ext cx="3448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истемы Роструд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предоставленная организацией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0"/>
          <p:cNvSpPr/>
          <p:nvPr/>
        </p:nvSpPr>
        <p:spPr>
          <a:xfrm>
            <a:off x="4513320" y="771480"/>
            <a:ext cx="664992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показатель рассчитывается по следующей форме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выпускники по трудовому договору, ГПХ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выпускники, являющиеся ИП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выпускники, являющиеся самозанятым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общая численность выпускни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– общая численность выпускников, продолживших обуч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2=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+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+ С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/(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 Вп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х 10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ВПК: (151+0+0)/(200-10)х100=79%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4597560" y="4968720"/>
            <a:ext cx="656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информация по показателю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 предшествующих года проведения аккредитационного мониторин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авая фигурная скобка 11"/>
          <p:cNvSpPr/>
          <p:nvPr/>
        </p:nvSpPr>
        <p:spPr>
          <a:xfrm rot="5400000">
            <a:off x="7487280" y="1735920"/>
            <a:ext cx="228600" cy="58118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5811840"/>
              <a:gd name="textAreaBottom" fmla="*/ 5806080 h 581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"/>
                  <a:pt x="10800" y="71"/>
                </a:cubicBezTo>
                <a:lnTo>
                  <a:pt x="10800" y="15276"/>
                </a:lnTo>
                <a:cubicBezTo>
                  <a:pt x="10800" y="15312"/>
                  <a:pt x="16200" y="15347"/>
                  <a:pt x="21600" y="15347"/>
                </a:cubicBezTo>
                <a:cubicBezTo>
                  <a:pt x="16200" y="15347"/>
                  <a:pt x="10800" y="15383"/>
                  <a:pt x="10800" y="15418"/>
                </a:cubicBezTo>
                <a:lnTo>
                  <a:pt x="10800" y="21529"/>
                </a:lnTo>
                <a:cubicBezTo>
                  <a:pt x="10800" y="2156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5"/>
          <p:cNvSpPr/>
          <p:nvPr/>
        </p:nvSpPr>
        <p:spPr>
          <a:xfrm>
            <a:off x="476280" y="324000"/>
            <a:ext cx="3867120" cy="220320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476280" y="2716200"/>
            <a:ext cx="3790800" cy="160812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обучающихся образовательной организации в оценочных процедурах, проведенных в рамках мониторинга системы образования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619200" y="4324320"/>
            <a:ext cx="344808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истемы Рособрнадзора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предоставленная организацией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ценки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0"/>
          <p:cNvSpPr/>
          <p:nvPr/>
        </p:nvSpPr>
        <p:spPr>
          <a:xfrm>
            <a:off x="4554360" y="1177920"/>
            <a:ext cx="66517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овавших по предметам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м Рособрнадзором во всероссийских проверочных работах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4597560" y="4968720"/>
            <a:ext cx="6565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информация по показателю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екущий учебный год или учебный год, предшествующий году проведения аккредитационного мониторин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лучае если в текущем учебном году организация не участвовала во всероссийских проверочных работах по отдельным учебным предмета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авая фигурная скобка 11"/>
          <p:cNvSpPr/>
          <p:nvPr/>
        </p:nvSpPr>
        <p:spPr>
          <a:xfrm rot="5400000">
            <a:off x="7487280" y="1735920"/>
            <a:ext cx="228600" cy="58118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5811840"/>
              <a:gd name="textAreaBottom" fmla="*/ 5806080 h 581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"/>
                  <a:pt x="10800" y="71"/>
                </a:cubicBezTo>
                <a:lnTo>
                  <a:pt x="10800" y="15276"/>
                </a:lnTo>
                <a:cubicBezTo>
                  <a:pt x="10800" y="15312"/>
                  <a:pt x="16200" y="15347"/>
                  <a:pt x="21600" y="15347"/>
                </a:cubicBezTo>
                <a:cubicBezTo>
                  <a:pt x="16200" y="15347"/>
                  <a:pt x="10800" y="15383"/>
                  <a:pt x="10800" y="15418"/>
                </a:cubicBezTo>
                <a:lnTo>
                  <a:pt x="10800" y="21529"/>
                </a:lnTo>
                <a:cubicBezTo>
                  <a:pt x="10800" y="2156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"/>
          <p:cNvSpPr/>
          <p:nvPr/>
        </p:nvSpPr>
        <p:spPr>
          <a:xfrm>
            <a:off x="393840" y="2725560"/>
            <a:ext cx="3975120" cy="24638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нный результат предшествующей аттестации обучающихся образовательной организации в форме демонстрационного экзамена по образовательной программе среднего профессионального обучения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сли образовательной программой предусмотрено наличие демонстрационного экзамена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4695840" y="4033800"/>
            <a:ext cx="673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 по показателю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чебный год, предшествующий году проведения аккредитационного мониторинг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392040" y="5468760"/>
            <a:ext cx="113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беспечения проведения государственной итоговой аттестации обучающихся, в форме демонстрационного экзаме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Прямоугольник 7"/>
          <p:cNvSpPr/>
          <p:nvPr/>
        </p:nvSpPr>
        <p:spPr>
          <a:xfrm>
            <a:off x="4795920" y="10018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анное значение результатов прохождения только итоговой аттестации за последние двенадцать месяцев, предшествующих году проведения аккредитационного мониторинга, в форе демонстрационного экзамена среди обучающихся выпускного курса по указанной профессии, специальности средне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6154560" y="1058760"/>
            <a:ext cx="1576440" cy="58752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6"/>
          <p:cNvSpPr/>
          <p:nvPr/>
        </p:nvSpPr>
        <p:spPr>
          <a:xfrm>
            <a:off x="4975200" y="1449360"/>
            <a:ext cx="6400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ставок, занимаемых педагогами с опытом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ставок, занимаемых педагогами, реализующими профессиональные модули основной программы среднего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6149880" y="4208400"/>
            <a:ext cx="57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кадры,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Рисунок 1" descr=""/>
          <p:cNvPicPr/>
          <p:nvPr/>
        </p:nvPicPr>
        <p:blipFill>
          <a:blip r:embed="rId3"/>
          <a:srcRect l="30965" t="45697" r="27319" b="24864"/>
          <a:stretch/>
        </p:blipFill>
        <p:spPr>
          <a:xfrm>
            <a:off x="127080" y="3220920"/>
            <a:ext cx="51181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311040" y="2884320"/>
            <a:ext cx="4608720" cy="23641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6154560" y="1058760"/>
            <a:ext cx="1576440" cy="58752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6"/>
          <p:cNvSpPr/>
          <p:nvPr/>
        </p:nvSpPr>
        <p:spPr>
          <a:xfrm>
            <a:off x="4975200" y="1449360"/>
            <a:ext cx="6400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личество педагогических работников, имеющих первую или высшую квалификационные категории, ученое звание и (или) ученую степень (в том числе богословскими учеными степенями и званиями) и лиц, приравненных к ним, участвующих в реализации учебного плана образовательной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его уровня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педагогических работников, участвующих в реализации образовательной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его уровня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Прямоугольник 13"/>
          <p:cNvSpPr/>
          <p:nvPr/>
        </p:nvSpPr>
        <p:spPr>
          <a:xfrm>
            <a:off x="7731000" y="5068800"/>
            <a:ext cx="43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профессиональным образовательным программам среднего профессионально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786200" y="628560"/>
            <a:ext cx="6589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7 «Имеется» устанавливается, если на официальном сайте профессиональной организации представлены следующие критерии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й нормативный акт о внутренней системе оценки качества образовательной деятельности в профессиональной организации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 самообследовании профессиональной организаци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13"/>
          <p:cNvSpPr/>
          <p:nvPr/>
        </p:nvSpPr>
        <p:spPr>
          <a:xfrm>
            <a:off x="7731000" y="5068800"/>
            <a:ext cx="43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10"/>
          <p:cNvSpPr/>
          <p:nvPr/>
        </p:nvSpPr>
        <p:spPr>
          <a:xfrm>
            <a:off x="476280" y="2925720"/>
            <a:ext cx="3790800" cy="160812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истемы оценки качества образования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6T16:39:05Z</dcterms:created>
  <dc:creator>User Windows</dc:creator>
  <dc:description/>
  <dc:language>en-US</dc:language>
  <cp:lastModifiedBy>j.ardabackaya</cp:lastModifiedBy>
  <dcterms:modified xsi:type="dcterms:W3CDTF">2023-09-21T14:10:30Z</dcterms:modified>
  <cp:revision>70</cp:revision>
  <dc:subject/>
  <dc:title>Презентация PowerPoint</dc:title>
</cp:coreProperties>
</file>